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31D-15F0-4C4D-9014-C989737C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EA4-6765-432C-AD39-07EEF90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C25-B373-45A4-9D71-B01C3BE4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36A-30D9-4B4E-920B-3650F56D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59C-6D63-4DC6-8400-27A59D6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C5A-EB9F-4D21-B5CC-76900697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4C9-3883-43F7-8D20-D26F339B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814-20FF-45BF-A5ED-FDAC1725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27B-B828-453D-8056-7340D424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0CF0-24CE-43F8-B98E-806DA9E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0E0F-7031-4003-ADE6-E55A22BA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881-86FF-4F1D-AE2B-7F30A7CD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FBDD-DB1E-44A6-8C03-8C4727A5F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Levels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 organism, population, community, and ecosystem in this photo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1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29:47Z</dcterms:created>
  <dc:creator>Sussex County Public Schools</dc:creator>
  <dc:description/>
  <dc:language>en-US</dc:language>
  <cp:lastModifiedBy>Brinkman</cp:lastModifiedBy>
  <dcterms:modified xsi:type="dcterms:W3CDTF">2007-09-06T12:04:26Z</dcterms:modified>
  <cp:revision>2</cp:revision>
  <dc:subject/>
  <dc:title>Recognizing the Levels Warm Up: Identify an organism, population, community, and ecosystem in this photograph.</dc:title>
</cp:coreProperties>
</file>